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F238-A7AC-405E-AEA0-7137213E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4311-9757-41E2-BDA4-1D7CE590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8B83-7C4C-40C9-A17F-36E4B723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9BDD-4128-4D71-9BF4-FC812FC8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F87A-3C87-4130-8C15-813E0F89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BDAB-1072-4DFD-8A50-452EC55E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4A0B-9BFC-4F5F-813C-6E41B9BC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74A-6F98-4EF7-A23B-12D0093A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0740-1203-4662-811A-5206C737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D451-25BC-4BF2-A4E9-9EC940CF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4600-790A-4AB3-88DC-0D149570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2CB3-5257-445F-8DC8-975F92EB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6A08-5244-4138-83C4-BBC863F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8156-9337-4170-BA9C-12AE9823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A6FA-BCC8-470A-8644-A1278568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AC42-0656-4633-9DEF-2278C020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450A-95CB-40BC-9847-39B121B6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0B04-6F08-422A-867D-A133D139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C3ED-C944-4301-9445-3E8F491D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DB75-EEB9-4F82-8CCF-D436F75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ECBF-8DC5-47EE-85D1-76ABB261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4C8B-A33E-426A-8FE1-6902B02C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B085-8DC1-4FF0-8DC7-15FB945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8397-D7C0-4117-A269-69E646A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2BE9-BE35-4CF1-A531-2FBD03A4A476}" type="slidenum"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BC1-91D4-4E6D-82C5-7A36D67270DA}" type="datetime">
              <a:rPr b="0" lang="es-A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8599-AA6E-4A3A-823E-999D232D5DC6}" type="datetime">
              <a:rPr b="0" lang="es-A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615C-4917-4779-A565-2CC510C20460}" type="slidenum"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Di&#225;logo" TargetMode="External"/><Relationship Id="rId2" Type="http://schemas.openxmlformats.org/officeDocument/2006/relationships/hyperlink" Target="http://es.wikipedia.org/wiki/Comunicaci&#243;n" TargetMode="External"/><Relationship Id="rId3" Type="http://schemas.openxmlformats.org/officeDocument/2006/relationships/hyperlink" Target="http://es.wikipedia.org/wiki/Lenguaje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3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Herramientas para enfrentar con éxito las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versaciones Difíc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271520" y="1290600"/>
            <a:ext cx="6600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123920" y="1200240"/>
            <a:ext cx="68961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143000" y="1233360"/>
            <a:ext cx="68580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143000" y="1204920"/>
            <a:ext cx="68580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133640" y="1190520"/>
            <a:ext cx="687672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50920" y="809640"/>
            <a:ext cx="87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ISTEMAS REPRESENT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66560" y="1811160"/>
            <a:ext cx="820908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ensa en imágenes que representan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ensa en varias cosas a la v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bla y escribe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ensa en cuadro: simultaneidad de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00007d"/>
                </a:solidFill>
                <a:latin typeface="Arial"/>
              </a:rPr>
              <a:t>(Veo, miro, habla con col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50920" y="809640"/>
            <a:ext cx="87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ISTEMAS REPRESENT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66560" y="2171880"/>
            <a:ext cx="8209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ensa en palabras que representan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sca la palabra exa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ensa en forma secuencial, es orden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lo interrumpimos por la mitad vuelve a empe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e una cosa por v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7d"/>
                </a:solidFill>
                <a:latin typeface="French Script MT"/>
              </a:rPr>
              <a:t>(Escucho, oíme, escuchá lo que te di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98880" y="1484280"/>
            <a:ext cx="21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UD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50920" y="809640"/>
            <a:ext cx="87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SISTEMAS REPRESENT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66560" y="2492280"/>
            <a:ext cx="820908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o le pega en el cue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ensa y siente con el cue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imero siente y luego actú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00007d"/>
                </a:solidFill>
                <a:latin typeface="French Script MT"/>
              </a:rPr>
              <a:t>(Me cayó la ficha, siento que…, me huele m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98880" y="1697040"/>
            <a:ext cx="29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KINESTESI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459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s palabras  nos permiten detectar el Sistema Representacional que está usando una persona, y adecuar nuestra convers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8480" y="1846080"/>
            <a:ext cx="2314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. Vi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are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st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nto de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spe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a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ntal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12000" y="1915920"/>
            <a:ext cx="2674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. Kinesté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n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gar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e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álido/F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f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otivo/Emo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orm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059280" y="1841400"/>
            <a:ext cx="244944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. Aud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í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nc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i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mar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 sue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/F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y todo oí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11280" y="1398600"/>
            <a:ext cx="7561080" cy="48387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59240" y="11001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81160" y="1100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559960" y="4986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sición de los 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503280" y="623160"/>
            <a:ext cx="84614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una conversación difícil se llevan a cabo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res convers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conversación de qué pa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mplican un desacuerdo sobre lo que pasó o debió pa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ién dijo qué y quién hizo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ién tiene raz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ién quería deci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ién tiene la cul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280" y="476280"/>
            <a:ext cx="8497800" cy="60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La escuch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gnifica escuchar y entender la comunicación desde el punto de vista del que hab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escuchar se convierte en uno de los principios fundamentales en cualquier proceso comunica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quiere un mayor esfuerzo que hablar y también interpretar lo que se o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enormes diferencias entre oír y escuchar, debido a que todo el tiempo estamos oyendo pero muy poco tiempo escuch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324000" y="404640"/>
            <a:ext cx="8569080" cy="63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Ventajas de escu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muestra que consideramos al otro una persona significativa y digna de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mula al interlocu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que escucha es más probable que sea, a su vez, escuch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 llegar al fondo de los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ien es escuchado llega a tener más claridad acerca de lo que pasa por su 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laja y neutraliza conflictos y host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ilita al emisor feedback mejorando la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536040" y="692280"/>
            <a:ext cx="83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lementos que facilitan la escucha ac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39640" y="1557360"/>
            <a:ext cx="8064720" cy="54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isposición psicológica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preparación para escuchar, observar al otro, identificar el contenido de lo que dice, los objetivos y los sentimi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ar al expositor que se esta escuchando con comun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Verbal: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 si lo vi, ya veo , claro, por eso, a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 Verbal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ontacto visual, afirmaciones con la cabeza, gestos de aprobació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1042200" y="520560"/>
            <a:ext cx="66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ara ser comunicadores efic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26920" y="1285920"/>
            <a:ext cx="777744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u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der adaptando nuestro lenguaje al interlo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tilizar el lenguaje 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ular las preguntas oportu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r respuestas cla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rificar si el mensaje ha sido compr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ientar la comunicación a la búsqueda de 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65600" y="571680"/>
            <a:ext cx="85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lementos para evitar en la escucha acti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02520" y="1557360"/>
            <a:ext cx="72561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distra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interrumpir al que hab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juz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ofrecer ayuda ni soluciones prema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rechazar lo que el otro este sinti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contar “Tu histor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contra argum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itar el síndrome del exp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Habilidades para la practica de la escuch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0280" y="1773360"/>
            <a:ext cx="8362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ostrar  empatía o interés: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ender lo que están expresando y sus motivos, ponernos en su lugar del otro “en sus zapat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frasear: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erificar o decir con las propias palabras lo que parece que dijo el e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mitir refuerzos o cumplidos: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n halagos para motivar a la persona y así poder elevar su autoestima y nos pueda dar mejor el mens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sumir: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formamos a la otra persona de nuestro grado de comprensión o de la necesidad de mayor acl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acer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753640" y="571680"/>
            <a:ext cx="35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Generaliz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72320" y="1336680"/>
            <a:ext cx="45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firmaciones Univer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282920" y="2060640"/>
            <a:ext cx="144720" cy="1297080"/>
          </a:xfrm>
          <a:custGeom>
            <a:avLst/>
            <a:gdLst>
              <a:gd name="textAreaLeft" fmla="*/ 92520 w 144720"/>
              <a:gd name="textAreaRight" fmla="*/ 145080 w 144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72320" y="213372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empre – Nunca –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ada - Nadi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4464000" y="2060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empre? – Nunca? – To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ay alguno que sí/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ubo alguna ocasión que sí/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71960" y="3594240"/>
            <a:ext cx="32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rases Limi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466560" y="4365720"/>
            <a:ext cx="36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u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go que/ No tengo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bo /Deb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debo/ No s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4282920" y="4221000"/>
            <a:ext cx="144720" cy="208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4716360" y="45464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é te lo imp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é pasaría si…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2754360" y="5716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Supre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27240" y="1192320"/>
            <a:ext cx="30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ujeto Imprec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3851280" y="1844640"/>
            <a:ext cx="216000" cy="7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56680" y="4216320"/>
            <a:ext cx="44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paración in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211640" y="177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ién específic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é co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30840" y="265752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texto no especifi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66560" y="4905360"/>
            <a:ext cx="36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el peor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el mejor empl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á más tranqu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3995640" y="4724280"/>
            <a:ext cx="144720" cy="1584360"/>
          </a:xfrm>
          <a:custGeom>
            <a:avLst/>
            <a:gdLst>
              <a:gd name="textAreaLeft" fmla="*/ 92520 w 144720"/>
              <a:gd name="textAreaRight" fmla="*/ 145080 w 14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211640" y="4834080"/>
            <a:ext cx="49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parado con qué/con quién/con cuá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que quién específic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68360" y="3213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i marido me hir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genera confli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3924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4284720" y="321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ómo? – Cuándo? – Don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qué? De que mane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39640" y="184464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me compr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o termina 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2754360" y="355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Distor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56320" y="9302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ausa distorsio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3851280" y="134136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39480" y="364176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re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211640" y="12682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ómo específicamen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Qué podés hacer para cambiar esta situació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5240" y="229860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ectura de 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324000" y="422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 es la forma cor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995640" y="4076640"/>
            <a:ext cx="144720" cy="793800"/>
          </a:xfrm>
          <a:custGeom>
            <a:avLst/>
            <a:gdLst>
              <a:gd name="textAreaLeft" fmla="*/ 92520 w 144720"/>
              <a:gd name="textAreaRight" fmla="*/ 145080 w 14472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211640" y="4005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Quién lo d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ómo lo sa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250920" y="281160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é porque lo has hec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olo lo dijo para enojar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3924360" y="278136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4284720" y="2751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ómo lo sab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ómo te das cuen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324000" y="1603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 pones nervi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327600" y="496260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ominal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24000" y="551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Necesito libert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Quiero comunicarme mej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3995640" y="544500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4248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ómo quisieras sentirte li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ómo deseas comunicar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395280" y="620640"/>
            <a:ext cx="859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Pensamientos que bloquean la Efectividad para escu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68360" y="1719360"/>
            <a:ext cx="8593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tiene nada que enseña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cambio mi punto de vista, demostraré de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Ya sé a lo que quiere lle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o escucho no tendré oportunidad de expresar lo que s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debería sentirse o reaccionar a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igo escuchando podría descubrir que yo estaba en una posición in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igo escuchándolo me terminará convenciéndome de algo que no qui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68360" y="766080"/>
            <a:ext cx="849636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presunción de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s conversaciones difíciles casi nunca se trat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er hec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trata de percepciones, interpretaciones y valores que entran en confli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invención de la i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ponemos que conocemos la intención de los otros cuando no es a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marco de la cul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s concentramos en encontrar quién tiene la cul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lo nos impide averiguar por qué resultaron mal las cosas y como podríamos corregirlas en el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95280" y="620640"/>
            <a:ext cx="859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onsecuencias de los Pensamientos Antes Menci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826920" y="1627200"/>
            <a:ext cx="763272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r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tratar de ver las cosas desde distinto áng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errumpir, no dejar expresar al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delant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tuar a la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stos y ademanes aplas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itir frases que “enseñan” a hacer las c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adecir automá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nsejar, sin analizar cual es la nece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rir la autoestima de los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4360" y="601560"/>
            <a:ext cx="2506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sertividad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68360" y="1587600"/>
            <a:ext cx="820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firmarse sin complejos y de forma constru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ender los propios derechos, sin tratar de invadir los de los de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tender llegar a la propia verdad personal, a las propias ideas y g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nunciarse de forma serena, firme y constru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214200" y="1638360"/>
            <a:ext cx="846324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hay que pedir algo fuera de lo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hay que decir “N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te cr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uno quiere hacer una cr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se quiere deshacer una manip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te expresiones humillantes o desp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03680" y="665280"/>
            <a:ext cx="90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ituaciones en las que es eficaz la aser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47640" y="1197000"/>
          <a:ext cx="7848720" cy="5327640"/>
        </p:xfrm>
        <a:graphic>
          <a:graphicData uri="http://schemas.openxmlformats.org/drawingml/2006/table">
            <a:tbl>
              <a:tblPr/>
              <a:tblGrid>
                <a:gridCol w="2016360"/>
                <a:gridCol w="3024000"/>
                <a:gridCol w="2808360"/>
              </a:tblGrid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rt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ateg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prepot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adicción Agres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ítica destruc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manezca tranquilo (o al menos simule)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e para contribuir de manera constru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 asertivo (No agresiv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extrovertido con dominio de sí m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ro de sí m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entrado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tive para lograr una fuerte particip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sabelot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 una respuesta para t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rumpe con preguntas/ci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reacc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 aser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ga preguntas que solamente generen  respuestas con Sí/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68"/>
          <p:cNvSpPr/>
          <p:nvPr/>
        </p:nvSpPr>
        <p:spPr>
          <a:xfrm>
            <a:off x="754560" y="353880"/>
            <a:ext cx="77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ómo manejar comportamientos desafi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647640" y="765000"/>
          <a:ext cx="7848720" cy="5693040"/>
        </p:xfrm>
        <a:graphic>
          <a:graphicData uri="http://schemas.openxmlformats.org/drawingml/2006/table">
            <a:tbl>
              <a:tblPr/>
              <a:tblGrid>
                <a:gridCol w="2016360"/>
                <a:gridCol w="3060360"/>
                <a:gridCol w="2772000"/>
              </a:tblGrid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rt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ateg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10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charlatá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ora el sonido de su propia 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rumpa con firmeza, con mucha diploma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ga preguntas que solamente generen  respuestas con Sí/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blezca límites a las aco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perez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interes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casa energ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desea contribuir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ídale su opin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éntelo para que contribu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tím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guarda para sí sus opin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uente a aportar una contrib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ga preguntas fác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cione sus aportes a los dem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ógi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647640" y="765000"/>
          <a:ext cx="7848720" cy="5532480"/>
        </p:xfrm>
        <a:graphic>
          <a:graphicData uri="http://schemas.openxmlformats.org/drawingml/2006/table">
            <a:tbl>
              <a:tblPr/>
              <a:tblGrid>
                <a:gridCol w="2052720"/>
                <a:gridCol w="3024000"/>
                <a:gridCol w="2772000"/>
              </a:tblGrid>
              <a:tr h="55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ort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ateg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1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rechaz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niega a integra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opone con fime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 pac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onozca el derecho a mantener opiniones dife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ele a su amb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engreí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ogante y presuntuo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nsible a la cr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ule preguntas que solamente generen respuestas Sí/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la técnica “Sí y..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 Aser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179280" y="5191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FLUENCIA DE LOS ESTILOS EN LOS ELEMENTOS DE LA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0920" y="1341360"/>
          <a:ext cx="8642160" cy="5448240"/>
        </p:xfrm>
        <a:graphic>
          <a:graphicData uri="http://schemas.openxmlformats.org/drawingml/2006/table">
            <a:tbl>
              <a:tblPr/>
              <a:tblGrid>
                <a:gridCol w="1728720"/>
                <a:gridCol w="1716120"/>
                <a:gridCol w="1739880"/>
                <a:gridCol w="1728720"/>
                <a:gridCol w="172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R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PUL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si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rec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miento pr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ioso y her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 y culp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fi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miento del o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e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g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onfi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itar ries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 hon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car part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 de los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déb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hon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un mal edu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poco creí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a no ver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da huidi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ra hund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da direc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ra rec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z fir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da fer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ra hacia del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z 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ada indirecta a la c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ura hacia atr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z monóto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s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que ustedes quieran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mi opinión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í me gustaría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o no se puede aguantar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ún el estudio..… lo que te convien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a del o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impacienta, abus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interesa (o se irrita porque no puede manipul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retira o también adopta la agres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 por retirarse o ausent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79280" y="1472040"/>
            <a:ext cx="8785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omic"/>
              </a:rPr>
              <a:t>Muchas Gra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"/>
              </a:rPr>
              <a:t>Dra. Sandra Garc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"/>
              </a:rPr>
              <a:t>Dra. Nora Kak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"/>
              </a:rPr>
              <a:t>Dr. Roberto Brigul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03280" y="977040"/>
            <a:ext cx="8461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conversación de los sent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 hacen o responden preguntas sobre los sent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Mis sentimientos son válid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Apropi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Debo reconocerlos o negar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Los pongo sobre la mesa o los gu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é hago en relación con los sentimientos de la otra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erso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é pasa si se siente furiosa o heri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03280" y="644760"/>
            <a:ext cx="8461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conversación de la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la conversación que cada uno de nosotros tiene consigo mismo sobre lo que significa la sit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Somos o no competen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Buenas o malas person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Dignas de afecto o desagrad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é impacto puede tener esto en nuestra propia imagen y autoesti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é consecuencias sobre nuestro futuro y bienes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as respuestas a estas preguntas determinan en gran medida si nos senti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“equilibrados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“desconcentrados o ansios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vers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n </a:t>
            </a:r>
            <a:r>
              <a:rPr b="0" lang="es-E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diálo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dos o más personas. Se establece una </a:t>
            </a:r>
            <a:r>
              <a:rPr b="0" lang="es-E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omuni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través del </a:t>
            </a:r>
            <a:r>
              <a:rPr b="0" lang="es-E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enguaje</a:t>
            </a:r>
            <a:br>
              <a:rPr sz="2400"/>
            </a:br>
            <a:r>
              <a:rPr b="0" lang="es-ES_tradnl" sz="2400" spc="-1" strike="noStrike" u="sng">
                <a:solidFill>
                  <a:srgbClr val="6666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4.bp.blogspot.com/-60sChcmPmlY/TZXhvY8bxGI/AAAAAAAAAJg/AH0m4eUHNCs/s1600/comunicacion.jpg"/>
          <p:cNvPicPr/>
          <p:nvPr/>
        </p:nvPicPr>
        <p:blipFill>
          <a:blip r:embed="rId4"/>
          <a:stretch/>
        </p:blipFill>
        <p:spPr>
          <a:xfrm>
            <a:off x="1500120" y="1989000"/>
            <a:ext cx="5953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81840" y="2921040"/>
            <a:ext cx="81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jemplo de variación en la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05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176480" y="1238400"/>
            <a:ext cx="679104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21:15:53Z</dcterms:created>
  <dc:creator>U200102</dc:creator>
  <dc:description/>
  <dc:language>en-US</dc:language>
  <cp:lastModifiedBy>asanclemente</cp:lastModifiedBy>
  <dcterms:modified xsi:type="dcterms:W3CDTF">2012-07-18T18:39:08Z</dcterms:modified>
  <cp:revision>206</cp:revision>
  <dc:subject/>
  <dc:title>Diapositiva 1</dc:title>
</cp:coreProperties>
</file>